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ADF-5596-48CC-8F39-05F416EC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5ED-78F4-4582-A111-E45F2CA9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0E0-F896-4C38-816A-A455645FC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A3D-9929-426E-849E-EEA4A259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7EE-A97E-48BB-B37C-84073CFB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B58-7FE9-48CE-85B0-CE99BA03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7DF-3439-4D1A-A750-985062CC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C62-01FC-4B3D-9290-CAFA1FF5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92D-B324-4FFD-B112-E2A51769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373D-3550-48C7-966F-6DA4044A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955-0B02-46F6-BEC2-892800D7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B43-A69C-4601-A690-A363F4E4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B79A-C59E-47EB-9458-00A4EFE6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39290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rjeta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ed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476280"/>
            <a:ext cx="62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nstituto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olitécnico </a:t>
            </a: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Palatino Linotype"/>
              </a:rPr>
              <a:t>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125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scuela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uperior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omp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5280" y="317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pa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lace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13096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 elementos a tomar en cuenta dentro de esta capa son l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22636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Tipo de Sincron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Síncrona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 Asíncr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Códigos de lí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Uni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P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Bipolar o 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Manch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RZ y N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Códigos difer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Manchester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B8Z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Palatino Linotype"/>
              </a:rPr>
              <a:t>HD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58920" y="0"/>
          <a:ext cx="6480000" cy="64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0"/>
                    <a:ext cx="6480000" cy="64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11280" y="41328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ontrol de flu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arar y esp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Ventana desliz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etección y control de err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ódigo de Redundancia Cíclica (CR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076720" y="476280"/>
          <a:ext cx="2737080" cy="17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476280"/>
                    <a:ext cx="273708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87280" y="1844640"/>
          <a:ext cx="2901960" cy="316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1844640"/>
                    <a:ext cx="290196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677960"/>
            <a:ext cx="8424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Tamaño del BUS interno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 suficientemente grande y sin muchas peticiones al procesador d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Soporte para </a:t>
            </a: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conexión automática</a:t>
            </a:r>
            <a:r>
              <a:rPr b="0" i="1" lang="es-MX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a la red y </a:t>
            </a: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reinicio</a:t>
            </a:r>
            <a:r>
              <a:rPr b="1" i="1" lang="es-MX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remoto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 del orden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Soporte WOL (Wake-On-Lan)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, para permanecer en varios estados de funcion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PXE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, para que un equipo sin S.O. pueda arrancar y conectar con un servidor de la red para obtener su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Palatino Linotype"/>
              </a:rPr>
              <a:t>Administración de la red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, integración con estándares como SN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317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tro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emento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3175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jetivo Prim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3813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eñar y simular el mecanismo de funcionamiento de una tarjeta de red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3177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bjetivo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cund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8720" y="4184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mplementar el mecanismo diseñado sobre una tarjeta física y realizar pruebas reales de funcionamiento sobre una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3175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s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920" y="939600"/>
            <a:ext cx="72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 tarjeta es uno de los elementos menos valorado y en muchas ocasiones puede provocar cuellos de botella que contraste con el rendimiento de una infraestructura de red muy cuid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Por lo mismo, es el elemento en el que se debería poner más cuidado al diseñ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7440" y="4149360"/>
            <a:ext cx="6767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Tarjeta de red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Palatino Linotype"/>
              </a:rPr>
              <a:t>Debido a que la velocidad estándar adoptada es 100 Mbps. con posibilidad de conmutar automáticamente a velocidades men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Conector RJ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Palatino Linotype"/>
              </a:rPr>
              <a:t>Por ser el más común y estar en ventaja con o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3175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structura del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stema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mun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12248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a tarjeta de red incluye todas las conexiones físicas y lógicas necesarias para comunicar al ordenador con el medio y así establecer la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Normalmente se contempla como un conjunto, pero en realidad consta de tres partes princip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298760"/>
            <a:ext cx="66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Transceptor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Palatino Linotype"/>
              </a:rPr>
              <a:t>Se usa para transmitir/recib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Conector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Palatino Linotype"/>
              </a:rPr>
              <a:t>RJ45, BNC ó enlace óp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Tarjeta de red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Palatino Linotype"/>
              </a:rPr>
              <a:t>Manipular señales y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619280"/>
            <a:ext cx="806436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5280" y="317520"/>
            <a:ext cx="48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iagrama a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ques de la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9280" y="1341360"/>
            <a:ext cx="3961440" cy="3816360"/>
            <a:chOff x="539280" y="1341360"/>
            <a:chExt cx="3961440" cy="3816360"/>
          </a:xfrm>
        </p:grpSpPr>
        <p:sp>
          <p:nvSpPr>
            <p:cNvPr id="57" name=""/>
            <p:cNvSpPr/>
            <p:nvPr/>
          </p:nvSpPr>
          <p:spPr>
            <a:xfrm>
              <a:off x="539640" y="177336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08360" y="177336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39280" y="5157720"/>
              <a:ext cx="3961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1773360"/>
              <a:ext cx="316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00720" y="436572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708000" y="4365720"/>
              <a:ext cx="7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40" y="134136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lace de Da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779640" y="1557360"/>
            <a:ext cx="5040360" cy="3824280"/>
            <a:chOff x="3779640" y="1557360"/>
            <a:chExt cx="5040360" cy="3824280"/>
          </a:xfrm>
        </p:grpSpPr>
        <p:sp>
          <p:nvSpPr>
            <p:cNvPr id="65" name=""/>
            <p:cNvSpPr/>
            <p:nvPr/>
          </p:nvSpPr>
          <p:spPr>
            <a:xfrm>
              <a:off x="3780000" y="1557360"/>
              <a:ext cx="504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20000" y="1557360"/>
              <a:ext cx="0" cy="3384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1557360"/>
              <a:ext cx="0" cy="2663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4221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435280" y="4941720"/>
              <a:ext cx="3384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3779640" y="4221000"/>
              <a:ext cx="165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51640" y="501336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ís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03280" y="1341360"/>
          <a:ext cx="6193080" cy="3681360"/>
        </p:xfrm>
        <a:graphic>
          <a:graphicData uri="http://schemas.openxmlformats.org/drawingml/2006/table">
            <a:tbl>
              <a:tblPr/>
              <a:tblGrid>
                <a:gridCol w="3167280"/>
                <a:gridCol w="302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un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apa en que ope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Segmentación y ensamb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o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ncapsul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o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ntrol de conex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ntrega en o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ntrol de flu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nlace de datos,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ontrol de err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Enlace de datos, Trans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Direccionami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ulticanaliz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Servicios de transm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o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395280" y="317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odelo de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317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unciones de los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otoco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1273680"/>
            <a:ext cx="7705800" cy="46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Segmentación y Ensamb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uando se requiere dividir un mensaje en partes mas pequeñas para transmitir y tratarlas y vice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Encapsu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uando a cada mensaje, paquete o trama segmentada, se agregan bits de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Control de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Indica el esquema a utilizar para enviar/recibir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 Linotype"/>
              </a:rPr>
              <a:t>Detección y corrección de err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écnicas necesarias para detectar errores debido a señales de ru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5280" y="317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pa 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97956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Los elementos a tomar en cuenta dentro de esta capa son los sigu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0200" y="2291400"/>
            <a:ext cx="547380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Relación señal a 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ten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Distorsión por atraso de envolv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995640" y="3068640"/>
                <a:ext cx="1295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564000" y="3645000"/>
          <a:ext cx="5256000" cy="24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645000"/>
                    <a:ext cx="52560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4000" y="46800"/>
            <a:ext cx="50400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Capacida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Definida por las siguientes ecu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Ancho de b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empre se toma el intervalo antes del primer nulo o el 90% de la señ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116000" y="1827360"/>
                <a:ext cx="2879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S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75280" y="1844640"/>
                <a:ext cx="2736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31:21Z</dcterms:created>
  <dc:creator>waldo</dc:creator>
  <dc:description/>
  <dc:language>en-US</dc:language>
  <cp:lastModifiedBy>waldo</cp:lastModifiedBy>
  <dcterms:modified xsi:type="dcterms:W3CDTF">2002-10-14T20:11:17Z</dcterms:modified>
  <cp:revision>13</cp:revision>
  <dc:subject/>
  <dc:title>Diapositiva 1</dc:title>
</cp:coreProperties>
</file>